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300-7462-4C39-AC6D-DF1729C5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929-6247-41C1-B945-A97CD4E7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D9C-7F8E-476B-86F8-9DBDF57C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717-5863-4BA2-8481-7C8E479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FAC-2F89-494C-94CB-7266294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CD-565A-4A3C-BC26-FD925FAF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917-362A-4031-B9E9-3D73FA7C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D8C-8FCC-4C66-9150-17502196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F42-B184-45F1-AC94-DC00ADEB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6EE-1277-4215-8EA0-A847FFC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607-CD17-4288-83D2-FB971C0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BAE-B3EA-4037-BA04-67DE0D3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FFD-4128-4EA9-82AF-15883E7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9A2-CD60-48F6-BAF0-283E1FFB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5AF-C15E-4B30-838B-C91CD16F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49536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46320" y="4492800"/>
            <a:ext cx="431640" cy="633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16680"/>
            <a:ext cx="536400" cy="785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47Z</dcterms:modified>
  <cp:revision>103</cp:revision>
  <dc:subject/>
  <dc:title>Profile</dc:title>
</cp:coreProperties>
</file>